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796-EE7A-445A-A913-02B3F093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D11-80C2-4F25-AF98-C04F9D44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626-500D-40F3-BB7A-90935733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E58-8D56-436C-8ADB-72C0354C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6DAF-4198-4FBB-830F-BA9C0678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9178-A441-4502-88EB-649572DC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49BE-BAC4-4B84-A5F9-EA06EB74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CC32-4B34-4F34-AB7D-239DBDB0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E734-CC6C-4D71-9912-2300B7D4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8586-3E9D-482D-AA96-89E5BEB6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16DD-F2ED-43D9-BA51-7A90EDC9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778-31D7-492F-A78A-5ED927A7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F2E6-5B54-4B92-B881-11863A57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B938-AA25-4682-BBA7-6A2AD2E6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7D25-9062-4F6A-9104-67B7B546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9576-914F-46C3-A815-F0C05756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88AC-2898-40AB-B93F-084ECDF8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6143C-E9A6-4619-8451-DACD3DA8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8100-E65B-4C58-B40F-31B22646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4D0DF-1EF0-4C42-9856-C9D11C4B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E3CC2-0DD9-4E92-BF70-5110680F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AAF6D-56DA-4FC8-954B-8FA51FCC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BF5C-7E36-4465-8D5D-12C8CFAC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67C09-113E-40AB-802F-681488E8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F91ED-42BC-4B70-8D50-839789F5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3578F-87C4-4ACE-8D35-6217C475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5AD8C-079E-44BE-AAAF-C5E87B98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2666-4C94-4DB7-8DE1-7114D6A5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EB0B6-E021-4DED-9C7C-207831FA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82437-879D-4418-AF59-FEBEE335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C8827-6FCE-4B38-B170-B03CA59B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21354-63D7-43E2-BE59-8A78539E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D80CD-46F0-4246-B40A-3F896908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38E3-433C-43A5-9A82-4F0347A0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88C7A-E9F5-4172-89CA-C0D2C6F6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D422E-D382-427A-961D-B5A41277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0C6B1-B282-42E1-A3BA-E372F214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2539-62C8-480E-B211-26724C42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CCB9F-4431-4A32-A1C4-B22D820F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F6138-033D-4718-A26A-00593319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F8227-0ADC-454E-B7F5-3BFC6E1D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7329C-AF76-4E8A-90CD-2C30BA1A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B3CD4-693C-4EED-9185-7297725E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5CA-3E65-4506-B457-EB4EC549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0AB-E7D6-46C2-84AC-3D873E46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75D-BBB4-44B4-93EC-3F4B716D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402-5B1C-47D3-B5C7-38922CBD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B31-1513-47BA-9625-FD724F94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33B0-AB83-4CF3-9BC7-2547515F58C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DF44-227C-40BE-9FD6-CB5B072262E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8007-D2ED-4132-8F42-66863A49FC5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EA23-5482-4657-B3B0-CAF7F2A6698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Documents and Settings\Liz\Local Settings\Temporary Internet Files\Content.IE5\Z37DDQH5\MCj03970480000[1].wmf"/>
          <p:cNvPicPr/>
          <p:nvPr/>
        </p:nvPicPr>
        <p:blipFill>
          <a:blip r:embed="rId1"/>
          <a:stretch/>
        </p:blipFill>
        <p:spPr>
          <a:xfrm>
            <a:off x="228600" y="2133720"/>
            <a:ext cx="4038480" cy="4030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2646360" cy="4986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1219320" y="6400800"/>
            <a:ext cx="70228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By Liz LaRosa </a:t>
            </a:r>
            <a:r>
              <a:rPr b="0" lang="en-US" sz="1300" spc="-1" strike="noStrike" u="sng">
                <a:solidFill>
                  <a:srgbClr val="e2d700"/>
                </a:solidFill>
                <a:uFillTx/>
                <a:latin typeface="Arial"/>
              </a:rPr>
              <a:t>http://www.middleschoolscience.com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1300" spc="-1" strike="noStrike" u="sng">
                <a:solidFill>
                  <a:srgbClr val="e2d700"/>
                </a:solidFill>
                <a:uFillTx/>
                <a:latin typeface="Arial"/>
              </a:rPr>
              <a:t>http://sciencespot.net/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0"/>
          <p:cNvSpPr/>
          <p:nvPr/>
        </p:nvSpPr>
        <p:spPr>
          <a:xfrm>
            <a:off x="838080" y="83808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Volu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4191120" y="49528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nap ITC"/>
              </a:rPr>
              <a:t>Challenge #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Hudson"/>
              </a:rPr>
              <a:t>Volume of Irregular Obj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7616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rock was placed into a graduated cylinder containing 100 milliliters of water. The diagram to the right illustrates the new level of wa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volume of the rock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A)  41 m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B)  141 m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C)  42 m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D)  142 m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3176640" cy="43369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7"/>
          <p:cNvSpPr/>
          <p:nvPr/>
        </p:nvSpPr>
        <p:spPr>
          <a:xfrm>
            <a:off x="762120" y="6172200"/>
            <a:ext cx="761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ified from NY State Regents Exam:  Biology Jan. 24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Content Placeholder 2"/>
          <p:cNvSpPr/>
          <p:nvPr/>
        </p:nvSpPr>
        <p:spPr>
          <a:xfrm>
            <a:off x="457200" y="1676520"/>
            <a:ext cx="5105520" cy="419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rock was placed into a graduated cylinder containing 100 milliliters of water. The diagram to the right illustrates the new level of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volume of the ro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C)  42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2 mL (end) – 100 mL (start) = 42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line = 2 mL incr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3176640" cy="43369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762120" y="6172200"/>
            <a:ext cx="761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ified from NY State Regents Exam:  Biology Jan. 24, 2001 question # 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Hudson"/>
              </a:rPr>
              <a:t>Volume of Irregular Objec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14:12:40Z</dcterms:created>
  <dc:creator>Liz</dc:creator>
  <dc:description/>
  <dc:language>en-US</dc:language>
  <cp:lastModifiedBy>Liz</cp:lastModifiedBy>
  <dcterms:modified xsi:type="dcterms:W3CDTF">2008-07-06T14:48:37Z</dcterms:modified>
  <cp:revision>14</cp:revision>
  <dc:subject/>
  <dc:title>Slide 1</dc:title>
</cp:coreProperties>
</file>